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A68-1073-4004-9643-92364D1E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598-D83F-45B9-9C3F-B7354C7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1DC-FE05-431E-8996-0C3447F9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269-5E30-49E5-A81D-730571CA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A4B-5F05-44A3-B063-ACE24E12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201-4FB7-4565-A782-28D47C49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DF5-1FA8-484E-B56B-DC33D6F8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895-3C9B-49FE-97AD-B936C88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97E-1B50-4228-8244-112D23C1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FE9-494F-4C0B-860F-79803F53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4EA-45A5-46E6-ACE1-B69F0B6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777-F1FE-478B-87C0-506DECB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9F4-10F7-4F72-931C-B1ECE215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iowa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bw/iowa.s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nchantedlearning.com/usa/states/iowa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929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90929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2531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Jessica Wa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10/1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Computer #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329800">
            <a:off x="990360" y="838080"/>
            <a:ext cx="69660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ow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9436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9421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Iowa’s State song, fifty states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,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: Des Mo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3,046,355 (in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entered in Dec 28,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our liberties we prize and our rights we will main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Hawkey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Wild Prairie R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Eastern Goldf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the song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an Indian tribal name of uncert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 Iowa’s tree is the Oak (quercus), largest cities are Des Moines, Cedar Rapids, Davenport, Sioux city, and Waterl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4520"/>
            <a:ext cx="5410080" cy="373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95800" y="4721400"/>
            <a:ext cx="4048200" cy="213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251460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Iowa,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October 18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iow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both pi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52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map of Iowa and its 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9421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nother map of Iowa but it shows where it is in the United states.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276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tate Flag of Iowa"/>
          <p:cNvPicPr/>
          <p:nvPr/>
        </p:nvPicPr>
        <p:blipFill>
          <a:blip r:embed="rId1"/>
          <a:stretch/>
        </p:blipFill>
        <p:spPr>
          <a:xfrm>
            <a:off x="304920" y="685800"/>
            <a:ext cx="8076960" cy="507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152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45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U.S State flags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,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Oct. 25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law.ou.edu/ushistory/flags/iafla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merican Goldfinch"/>
          <p:cNvPicPr/>
          <p:nvPr/>
        </p:nvPicPr>
        <p:blipFill>
          <a:blip r:embed="rId1"/>
          <a:stretch/>
        </p:blipFill>
        <p:spPr>
          <a:xfrm>
            <a:off x="228600" y="380880"/>
            <a:ext cx="2523960" cy="333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bird the eastern goldf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7652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irds of America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. 25 2011, http://www.50states.com/bird/goldfin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Iowa’s flower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5486400"/>
            <a:ext cx="4343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owa’s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.25 2011, http://www.50states.com/flower/iow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All images Copyright © 1997 - 2000 WriteLine. All Rights Reserved. East Peru Iowa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East Peru, 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19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, Oct. 25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9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All images Copyright © 1997 - 2000 WriteLine. All Rights Reserved. Des Moines"/>
          <p:cNvPicPr/>
          <p:nvPr/>
        </p:nvPicPr>
        <p:blipFill>
          <a:blip r:embed="rId1"/>
          <a:stretch/>
        </p:blipFill>
        <p:spPr>
          <a:xfrm>
            <a:off x="0" y="380880"/>
            <a:ext cx="8458200" cy="563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capital Des Mo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9436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216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, Oct. 25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9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4Z</dcterms:created>
  <dc:creator>install</dc:creator>
  <dc:description/>
  <dc:language>en-US</dc:language>
  <cp:lastModifiedBy>install</cp:lastModifiedBy>
  <dcterms:modified xsi:type="dcterms:W3CDTF">2011-10-26T13:55:58Z</dcterms:modified>
  <cp:revision>11</cp:revision>
  <dc:subject/>
  <dc:title>Slide 1</dc:title>
</cp:coreProperties>
</file>